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84BB-3D2D-45AE-B3C0-3B4329E08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re is an overlay of earthquake epicenters. GIS overlay analysis can help us see such relationships easi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fic Citation Density analysis to identify repeat call areas.  Areas identified to increase police patro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nsas and Illinois are great places to own a nice car, but DRIVE FAST through some stat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ere working for the KBI Stolen Vehicle Unit, this would tell you where to send your offi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Access analysis.  All Green points indicate a cardiologist within five miles of a patient.  All red points indicate that there is not a cardiologist within 5 miles of the patie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 Locator Internet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land use planning map of St. John’s County,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layer of a utility network GIS done for a small community in Kansas by Fort Hays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reenshot of an integrated GIS/CAMA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911 map for Gwinnitt County, Georg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ells located in the floodplain of a small Kansas town created by FHS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ing Districts in a small Kansas town. Posting such information can boost voter turn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we been able to integrate all the information we had, the 911 atrocity might have been stopp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major tectonic plate boundari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A36-82A1-4568-9076-4C675883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F8C-1D05-4BDA-9851-E78ACC6D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BEB-5DD9-43A2-8488-E5C9751D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C4E1-316B-4AD2-ACD2-0D4F7225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652D-1198-4AAF-8EBE-13BF0818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0596-8270-44B2-9509-4047AEDD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F516-41D5-4897-90D9-F3EE7FEF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F175-CC1E-4EB1-98E9-DD707FDD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C381-E85A-4F42-9763-50DE406B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D063-5E21-4851-9DDA-475C6DFE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EBE7-8842-4437-95D0-CD2CCEB4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E48-8390-4D8D-9E95-BF72A887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A6C5-3A22-49B4-BFB1-02753A01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2AB2-237D-4455-B83F-B6D7C3C8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4495-E878-4814-8CA4-7B7F69CD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EDE1-A61F-410F-A46B-95CAA60B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05AC-B06C-4BE1-984A-0DC0E98D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FE8-DF2D-4C2C-883B-4C5187BE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676-5ACB-4AA2-A7DA-7BD31103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4B2-E832-4C12-BA46-DB3DFC1F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86D-3C48-4144-B13E-4774F137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961-AB47-47E9-99E2-ABF04A3A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C764-2F4E-4FDB-BC2B-402676EC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1EB-50F1-472A-A581-C38EDDFF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0" name="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977A-7615-46F4-94B6-CA4D0D9768A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6837-14F5-4A7A-9131-D6758083E9A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We live in a world of increasing complexity…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4190760" cy="2971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879800" y="1676520"/>
            <a:ext cx="4264200" cy="238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495680" y="4038480"/>
            <a:ext cx="3314880" cy="2819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438280" y="1752480"/>
            <a:ext cx="3733920" cy="197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B11-F0C8-44A8-A9AC-7060E2102D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305920" cy="41371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GIS - Earthquake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FD3-3BB7-4877-8F11-1A8E76F226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GIS is also an increasingly important part of the fight against crime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technology seen on the TV show</a:t>
            </a:r>
            <a:r>
              <a:rPr b="0" i="1" lang="en-US" sz="3200" spc="-1" strike="noStrike">
                <a:solidFill>
                  <a:srgbClr val="eaeaea"/>
                </a:solidFill>
                <a:latin typeface="Arial Narrow"/>
              </a:rPr>
              <a:t> “24” 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ctually exists – and it helped lower New York City’s murder rate by half!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71B0-49F2-4A0A-9E5D-A1044C0EE2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220-2B22-44E7-AD14-555DC19120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GIS - US Car Theft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53452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3290-61F2-41CD-A393-85DEE379A6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GIS - US Car Thefts (detail)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30592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A8D-C1E8-42E3-841E-E24BED257F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Proximity Analysis is another important part of  GI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By using proximity analysis, we can determine the spatial relationship between two sets of object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898A-DF04-43E8-B318-517E9D3408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E49-8C0D-4AF5-BA39-E17E1A153E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Linked attribute data make searches easy and efficien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formation at your fingertips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231D-5E5D-4035-9E95-854FD4D570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2F8-205A-4587-B000-033FD00DB5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GIS can help Local Government 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IS can provide greater efficiency, faster response times, better community relations, and cost saving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IS can allow “automation” of functions currently performed by hand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IS can help local governments meet state and Federal mandates, without straining personnel or raising taxe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CF7-3393-4491-ACF6-79443F4F33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Where obtaining timely information can be a matter of life…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76312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6559-4D40-4F26-A894-77AAB2DD69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GIS can help Planning create Better Communities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spatial analysis can be used to estimate resources needed, model development, and monitor progres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overlay analysis can be used to gauge the suitability of land for future developmen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can help streamline the permit proces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800600" y="1828800"/>
            <a:ext cx="373392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AC5-AF4D-4F0C-B9BB-0A734871DC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GIS – an Important Tool for Engineering and Public Works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can be used to integrate CAD work and GPS points into fully functional GIS systems, to provide spatial analysis capability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can allow creation of geographically referenced databases of pavement conditions, street signs, hydrants, manholes, and utility line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3886200" cy="37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3149-6EE1-42D6-BFC7-313DB99696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GIS Can Create Safer Communitie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315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Police and Sheriff’s Departments can use GIS spatial analysis to find dangerous intersections, identify high-crime areas, and assign officers and deputies in a more efficient manner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15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re departments can use network analysis to route units to emergencies most rapidly, and to identify hazards such as tanks and explosiv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15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EMS personnel can use GIS to track units, route resources, and identify potential hazard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685800" y="2579760"/>
            <a:ext cx="3809880" cy="29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F528-C1B6-45E4-B867-757F59FCD0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GIS and Appraisers – Natural Partners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GIS can be integrated with CAMA to make appraisal faster and more accurate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oth GIS and CAMA operate using relational databases – a relate can be established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ystem can be tailored to meet local need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572000" y="2514600"/>
            <a:ext cx="4267080" cy="30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B09-D27A-40E1-AC07-9DD6C6D65F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GIS is Necessary for Efficient E911 Operation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can be used to create a street centerline file, with street, address, and location information needed for E911 dispatch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n utilize scanned images of plats, records of real property from the tax assessor, aerial photography, and rights-of-way in the cadastral layer 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85800" y="1987560"/>
            <a:ext cx="3809880" cy="410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3E69-9734-4934-8EB0-2A86907C42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GIS – An Important Weapon in The Emergency Manager’s Arsenal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allows and facilitates the integration of many types of information concerning threat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llows cataloging of critical infrastructure, evacuation routes, supplies, rescue assets, and backup power supplie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on’t “star” in your own “Katrina”!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4648320" y="2438280"/>
            <a:ext cx="4495680" cy="316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95E-CA63-4EEA-982C-BC6DEF9B27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Internet Map Servers (IMS)– Sell your Area, Serve Your Citizens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MS can be used to “market” a community or area to potential businesses or enterprise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itizens can obtain information via IMS that would otherwise take up employees time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57200" y="23623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268-C27F-41D7-B1FB-F0275CD4863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The Future of GI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More powerful software – faster analysi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osts are coming down - GIS systems are now available to the smaller user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formation sharing is becoming easier than ever before – and about time, too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field is getting bigger very rapidly – opportunities are increasing almost exponentiall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BCC-FE67-40B2-94EB-51761A35E4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or death…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932-3BA9-40E3-AF10-C585BA51C9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Geographic Information Systems (GIS) are a tool for complex times 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IS can make information available to decision-makers faster than ever befor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IS can explore spatial relationships, and find connections unsuspected befor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rough </a:t>
            </a:r>
            <a:r>
              <a:rPr b="0" i="1" lang="en-US" sz="3200" spc="-1" strike="noStrike">
                <a:solidFill>
                  <a:srgbClr val="eaeaea"/>
                </a:solidFill>
                <a:latin typeface="Arial Narrow"/>
              </a:rPr>
              <a:t>spatial analysis, 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IS can produce new information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IS can save </a:t>
            </a:r>
            <a:r>
              <a:rPr b="0" i="1" lang="en-US" sz="3200" spc="-1" strike="noStrike">
                <a:solidFill>
                  <a:srgbClr val="eaeaea"/>
                </a:solidFill>
                <a:latin typeface="Arial Narrow"/>
              </a:rPr>
              <a:t>time, money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, and </a:t>
            </a:r>
            <a:r>
              <a:rPr b="0" i="1" lang="en-US" sz="3200" spc="-1" strike="noStrike">
                <a:solidFill>
                  <a:srgbClr val="eaeaea"/>
                </a:solidFill>
                <a:latin typeface="Arial Narrow"/>
              </a:rPr>
              <a:t>live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4C5-BE1D-4C55-82D4-6E577AEE25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What is GIS?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 Geographic Information System is: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Any manual or computer-based set of procedures used to store and manipulate geographically referenced data.”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GIS is a series of computerized maps with information linked to the map electronically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tores information, plus creates new information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IS can model various components of the world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162-5153-428A-8B9E-F5D50DF2C0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What GIS is NOT…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is not CAD – CAD (Computer Aided Design) are primarily graphic display systems, for use in the design process – they do not have spatial analysis capability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is not automated cartography – automated cartography replicates traditional cartographic techniques using computers – does not have true GIS capability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is not GPS – GPS (Global Positioning Systems) use satellite timing signals to determine accurate positions on the Earth’s surface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GIS works well with, and can enhance, all of these thing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0E30-FE5F-452E-B93D-34A4ABADAE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How does GIS work?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e key is data arranged in</a:t>
            </a:r>
            <a:r>
              <a:rPr b="0" i="1" lang="en-US" sz="2800" spc="-1" strike="noStrike">
                <a:solidFill>
                  <a:srgbClr val="eaeaea"/>
                </a:solidFill>
                <a:latin typeface="Arial Narrow"/>
              </a:rPr>
              <a:t> layers –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each different type of data has its own lay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ayers </a:t>
            </a:r>
            <a:r>
              <a:rPr b="0" i="1" lang="en-US" sz="2800" spc="-1" strike="noStrike">
                <a:solidFill>
                  <a:srgbClr val="eaeaea"/>
                </a:solidFill>
                <a:latin typeface="Arial Narrow"/>
              </a:rPr>
              <a:t>interact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e computer environment – can be combined, clipped, overlain, or otherwise manipulated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is manipulation can produce new information – this is called </a:t>
            </a:r>
            <a:r>
              <a:rPr b="0" i="1" lang="en-US" sz="2800" spc="-1" strike="noStrike">
                <a:solidFill>
                  <a:srgbClr val="eaeaea"/>
                </a:solidFill>
                <a:latin typeface="Arial Narrow"/>
              </a:rPr>
              <a:t>spatial analysi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patial Analysis is what makes true GIS different from simple electronic map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inked attribute data puts information at your fingertips, leading to faster response times, and better decisions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C1E-B565-478B-A550-6BB519BA8A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Overlay Analysis is an important part of GIS Operation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One data layer can be superimposed on another data layer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 this way, unsuspected interactions can be found and studied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ew information can be generated in this manner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051-9CE8-4A5E-924B-C9F3A86DAE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GIS - Tectonic Plate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305920" cy="413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288-AEF1-4AEF-9379-4E88FE0978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18:35:25Z</dcterms:created>
  <dc:creator>FHSU</dc:creator>
  <dc:description/>
  <dc:language>en-US</dc:language>
  <cp:lastModifiedBy>imlandgraf</cp:lastModifiedBy>
  <dcterms:modified xsi:type="dcterms:W3CDTF">2006-06-05T15:08:09Z</dcterms:modified>
  <cp:revision>23</cp:revision>
  <dc:subject/>
  <dc:title>What is GIS?</dc:title>
</cp:coreProperties>
</file>