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7CF-BB78-4174-9F96-42E0E8FA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B6B-FB47-4685-9BD9-6C62BF0D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F53-F8DF-4B97-BCE2-0A5EFA25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64E-342D-4027-9A2E-66EF9041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2D8-0B30-450A-8327-615ACEA1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2BA-E2E2-40AC-8B3D-3ACB9925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4F1-A47E-4F04-8F14-1A7CD309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966-CFBB-4281-B8F6-E4E163F6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36D-F28C-42B6-A869-0D55BEAB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6C5-581B-4CA7-9A89-CEE1D37D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F9F-90E6-4D12-BA3A-6BB656B1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619-7A73-44FA-8869-BAA16232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401C-1829-441A-8AFE-D110C51C3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4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4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97280" y="4572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data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itc10fcsmall" descr=""/>
          <p:cNvPicPr/>
          <p:nvPr/>
        </p:nvPicPr>
        <p:blipFill>
          <a:blip r:embed="rId4"/>
          <a:stretch/>
        </p:blipFill>
        <p:spPr>
          <a:xfrm>
            <a:off x="7467480" y="4191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mak5007nbksmall" descr=""/>
          <p:cNvPicPr/>
          <p:nvPr/>
        </p:nvPicPr>
        <p:blipFill>
          <a:blip r:embed="rId5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mak6402small" descr=""/>
          <p:cNvPicPr/>
          <p:nvPr/>
        </p:nvPicPr>
        <p:blipFill>
          <a:blip r:embed="rId6"/>
          <a:stretch/>
        </p:blipFill>
        <p:spPr>
          <a:xfrm>
            <a:off x="739152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98760" y="15652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2057400"/>
            <a:ext cx="557856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data entry and formatting tools available to simplify the metadata creation process, inclu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 indent="2332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reation tools and templa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 indent="2332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-checking to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tme features, limit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0840" y="1676520"/>
            <a:ext cx="8723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s and generates ASCII metadata fi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standard X Window MIT Athena widget set to create a graphical user interfa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menu-driv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rror checking on data entered into text window - e.g., could have text in numerical fields or values outside allowable r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 can be used to easily check Xtme metadata for formatting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91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92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94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95" name="duckleft" descr=""/>
          <p:cNvPicPr/>
          <p:nvPr/>
        </p:nvPicPr>
        <p:blipFill>
          <a:blip r:embed="rId3"/>
          <a:stretch/>
        </p:blipFill>
        <p:spPr>
          <a:xfrm>
            <a:off x="22860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1240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tme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xtmescrn" descr=""/>
          <p:cNvPicPr/>
          <p:nvPr/>
        </p:nvPicPr>
        <p:blipFill>
          <a:blip r:embed="rId4"/>
          <a:stretch/>
        </p:blipFill>
        <p:spPr>
          <a:xfrm>
            <a:off x="990720" y="1143000"/>
            <a:ext cx="73152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99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200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3808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CII template inform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1600200"/>
            <a:ext cx="8723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n/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: any with text editor or word process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ersions – two-space and tabbed inden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no cost through Internet at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badger.state.wi.us/agencies/wlib/sco/metatool/template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ll elements of FGDC-STD-001-199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before development of advanced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7720" y="533412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ource: same as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205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206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CII template features, limit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1752480"/>
            <a:ext cx="87231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ll possible choices for elements and compound elements of metadat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no indication of what is required, optional, one of a choice, or repeatable (have CSDGM hand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users create metadata with content of the CSDGM and in a structure which can pass mp; however, it is easy to create metadata that does not conform to the CSDG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new life by CNS preprocessor, which smooths the path to 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5334120"/>
            <a:ext cx="2584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211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212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32760" y="1143000"/>
            <a:ext cx="52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MS too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2096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84360" y="2251080"/>
            <a:ext cx="702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21747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2057400"/>
            <a:ext cx="61722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or: RTSe U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95, 98, 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price $650* – for information: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rtseus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oftware version – 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Discount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220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221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440440" y="380880"/>
            <a:ext cx="45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MS tool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066680"/>
            <a:ext cx="84582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ssociate a metadata record with the actual GIS data it describ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metadata capture - when SMMS record is associated with GIS data, metadata elements can be directly extracted from the GIS data into SMMS fiel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-defined fields in addition to standard fiel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user access – user accounts can be created for metadata providers to log in and update their meta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-use - Contacts, Citations and Distribution Methods are stored as shared records that can be referenced by any SMMS metadata reco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54864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ource: http://www.rtseusa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226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227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457200" y="1600200"/>
          <a:ext cx="8077320" cy="3492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600"/>
                <a:gridCol w="20192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 Use one of the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re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 Then,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 And finally,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2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Cat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View Metadata Colle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II template documen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Metadata Management System (SM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m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k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t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1760" indent="-1778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C t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meta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163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2600" indent="-1634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2600" indent="-1634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rocess for MP with CNS if necessary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2600" indent="-1634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e against the CSDGM with MP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2600" indent="-1634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to 1.) if necessary for additional editing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2600" indent="-16344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Helvetic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wise go to next ste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2600" indent="-163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MP to produce HTML for display and SGML for an NSDI Clearinghouse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1600200" y="99072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Metadata Tool is the One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98760" y="5375160"/>
            <a:ext cx="634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638680"/>
            <a:ext cx="67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Primary source: http://badger.state.wi.us/agencies/wlib/sco/metatool/toolchoz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5181480"/>
            <a:ext cx="56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*Steps 2 and 3 are  not necessary with the DASC tool and SM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234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235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523880" y="1828800"/>
          <a:ext cx="6096240" cy="1933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S/Platform/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data T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NT Arc/Inf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Catalog (Arc 8.0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X, Lin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tme, Tk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-Wind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MS, Tkme, MetaMaker, DASC tool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1371600" y="1143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able CSDGM Metadata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4114800"/>
            <a:ext cx="72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Must have Internet access to use the DASC to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gh crude, ASCII templates work well and should be sufficient for many operations. The metadata utilities MP and CNS, in their respective niches, are excell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46480" y="5146560"/>
            <a:ext cx="62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5334120"/>
            <a:ext cx="571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Primary sourc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http://badger.state.wi.us/agencies/wlib/sco/metatool/toolchoz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2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7280" y="4572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data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733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tools: used to create metadata like a word processor is used for ordinary documents. 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08040" y="3089160"/>
            <a:ext cx="656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60680" y="3013200"/>
            <a:ext cx="61880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0560" indent="-29664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various platforms/formats – Windows, UNIX, 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9664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oprietary, some no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9664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online or standalo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9664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-assisted or non-entry-assi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58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59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7280" y="4572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data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133720"/>
            <a:ext cx="7391520" cy="23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: Used to check the completed metadata for formatting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 indent="2332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Helvetica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so create HTML and SGML files from metadata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 indent="2332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Helvetica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ommon parsers – MP, C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 indent="2332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Helvetica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needed if using creation tools such as the SMMS and DASC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Logo" descr=""/>
          <p:cNvPicPr/>
          <p:nvPr/>
        </p:nvPicPr>
        <p:blipFill>
          <a:blip r:embed="rId1"/>
          <a:stretch/>
        </p:blipFill>
        <p:spPr>
          <a:xfrm>
            <a:off x="152280" y="-15228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63" name="bottomline2" descr=""/>
          <p:cNvPicPr/>
          <p:nvPr/>
        </p:nvPicPr>
        <p:blipFill>
          <a:blip r:embed="rId2"/>
          <a:stretch/>
        </p:blipFill>
        <p:spPr>
          <a:xfrm>
            <a:off x="2666880" y="6027840"/>
            <a:ext cx="6115320" cy="753840"/>
          </a:xfrm>
          <a:prstGeom prst="rect">
            <a:avLst/>
          </a:prstGeom>
          <a:ln w="0">
            <a:noFill/>
          </a:ln>
        </p:spPr>
      </p:pic>
      <p:pic>
        <p:nvPicPr>
          <p:cNvPr id="64" name="duckleft" descr=""/>
          <p:cNvPicPr/>
          <p:nvPr/>
        </p:nvPicPr>
        <p:blipFill>
          <a:blip r:embed="rId3"/>
          <a:stretch/>
        </p:blipFill>
        <p:spPr>
          <a:xfrm>
            <a:off x="0" y="5562720"/>
            <a:ext cx="923760" cy="108576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62120" y="990720"/>
            <a:ext cx="7772400" cy="4876200"/>
            <a:chOff x="762120" y="990720"/>
            <a:chExt cx="7772400" cy="4876200"/>
          </a:xfrm>
        </p:grpSpPr>
        <p:grpSp>
          <p:nvGrpSpPr>
            <p:cNvPr id="66" name=""/>
            <p:cNvGrpSpPr/>
            <p:nvPr/>
          </p:nvGrpSpPr>
          <p:grpSpPr>
            <a:xfrm>
              <a:off x="764280" y="999000"/>
              <a:ext cx="7767720" cy="4858920"/>
              <a:chOff x="764280" y="999000"/>
              <a:chExt cx="7767720" cy="485892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764280" y="999000"/>
                <a:ext cx="1684440" cy="485640"/>
                <a:chOff x="764280" y="999000"/>
                <a:chExt cx="1684440" cy="4856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64280" y="99900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ool Na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64280" y="99900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2448720" y="999000"/>
                <a:ext cx="3887640" cy="485640"/>
                <a:chOff x="2448720" y="999000"/>
                <a:chExt cx="3887640" cy="4856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2448720" y="99900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un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48720" y="99900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6336720" y="999000"/>
                <a:ext cx="2195280" cy="485640"/>
                <a:chOff x="6336720" y="999000"/>
                <a:chExt cx="2195280" cy="4856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36720" y="99900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latform/OS/GI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336720" y="99900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764280" y="1485000"/>
                <a:ext cx="1684440" cy="485640"/>
                <a:chOff x="764280" y="1485000"/>
                <a:chExt cx="1684440" cy="4856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764280" y="148500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Arc Catalo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64280" y="148500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448720" y="1485000"/>
                <a:ext cx="3887640" cy="485640"/>
                <a:chOff x="2448720" y="1485000"/>
                <a:chExt cx="3887640" cy="4856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448720" y="148500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telligent CSDGM (1998) metadata creation tool for Arc/Inf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448720" y="148500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6336720" y="1485000"/>
                <a:ext cx="2195280" cy="485640"/>
                <a:chOff x="6336720" y="1485000"/>
                <a:chExt cx="2195280" cy="4856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36720" y="148500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ndows NT with Arc/Info 8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336720" y="148500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764280" y="1971000"/>
                <a:ext cx="1684440" cy="485640"/>
                <a:chOff x="764280" y="1971000"/>
                <a:chExt cx="1684440" cy="4856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764280" y="197100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ASCII template documen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4280" y="197100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448720" y="1971000"/>
                <a:ext cx="3887640" cy="485640"/>
                <a:chOff x="2448720" y="1971000"/>
                <a:chExt cx="3887640" cy="485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448720" y="197100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tadata entry a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448720" y="197100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336720" y="1971000"/>
                <a:ext cx="2195280" cy="485640"/>
                <a:chOff x="6336720" y="1971000"/>
                <a:chExt cx="2195280" cy="4856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336720" y="197100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y platform with text editor or word process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336720" y="197100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764280" y="2457000"/>
                <a:ext cx="1684440" cy="485640"/>
                <a:chOff x="764280" y="2457000"/>
                <a:chExt cx="1684440" cy="4856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764280" y="245700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CNS (Chew and Spi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280" y="245700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2448720" y="2457000"/>
                <a:ext cx="3887640" cy="485640"/>
                <a:chOff x="2448720" y="2457000"/>
                <a:chExt cx="3887640" cy="4856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448720" y="245700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tadata format preprocessor for </a:t>
                  </a: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M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448720" y="245700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336720" y="2457000"/>
                <a:ext cx="2195280" cy="485640"/>
                <a:chOff x="6336720" y="2457000"/>
                <a:chExt cx="2195280" cy="485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336720" y="245700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NIX, DOS, Windows 95 or 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336720" y="245700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764280" y="2943000"/>
                <a:ext cx="1684440" cy="485640"/>
                <a:chOff x="764280" y="2943000"/>
                <a:chExt cx="1684440" cy="4856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64280" y="294300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DASC Metadata Collection To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4280" y="294300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448720" y="2943000"/>
                <a:ext cx="3887640" cy="485640"/>
                <a:chOff x="2448720" y="2943000"/>
                <a:chExt cx="3887640" cy="4856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448720" y="294300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eb-based CSDGM metadata creation to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448720" y="294300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336720" y="2943000"/>
                <a:ext cx="2195280" cy="485640"/>
                <a:chOff x="6336720" y="2943000"/>
                <a:chExt cx="2195280" cy="485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336720" y="294300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ndows 95/98/NT with Internet acc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336720" y="294300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764280" y="3429000"/>
                <a:ext cx="1684440" cy="484920"/>
                <a:chOff x="764280" y="3429000"/>
                <a:chExt cx="1684440" cy="4849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764280" y="3429000"/>
                  <a:ext cx="1684440" cy="4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MetaMaker 2.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64280" y="3429000"/>
                  <a:ext cx="1684440" cy="48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2448720" y="3429000"/>
                <a:ext cx="3887640" cy="484920"/>
                <a:chOff x="2448720" y="3429000"/>
                <a:chExt cx="3887640" cy="4849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448720" y="3429000"/>
                  <a:ext cx="3887640" cy="4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SDGM metadata creation to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448720" y="3429000"/>
                  <a:ext cx="3887640" cy="48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336720" y="3429000"/>
                <a:ext cx="2195280" cy="484920"/>
                <a:chOff x="6336720" y="3429000"/>
                <a:chExt cx="2195280" cy="4849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336720" y="3429000"/>
                  <a:ext cx="2195280" cy="4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S-Window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336720" y="3429000"/>
                  <a:ext cx="2195280" cy="48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64280" y="3914280"/>
                <a:ext cx="1684440" cy="485640"/>
                <a:chOff x="764280" y="3914280"/>
                <a:chExt cx="1684440" cy="4856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64280" y="391428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M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64280" y="391428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448720" y="3914280"/>
                <a:ext cx="3887640" cy="485640"/>
                <a:chOff x="2448720" y="3914280"/>
                <a:chExt cx="3887640" cy="485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448720" y="391428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tility to check compliance of metadata with CSDGM (1998) and produce output in formatted text, HTML, SGML, or DIF 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448720" y="391428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336720" y="3914280"/>
                <a:ext cx="2195280" cy="485640"/>
                <a:chOff x="6336720" y="3914280"/>
                <a:chExt cx="2195280" cy="485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6336720" y="391428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NIX, DOS, Windows 95 or 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336720" y="391428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64280" y="4400280"/>
                <a:ext cx="1684440" cy="485640"/>
                <a:chOff x="764280" y="4400280"/>
                <a:chExt cx="1684440" cy="485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4280" y="440028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Spatial Metadata Managment System (SMMS) 3.0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64280" y="440028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2448720" y="4400280"/>
                <a:ext cx="3887640" cy="485640"/>
                <a:chOff x="2448720" y="4400280"/>
                <a:chExt cx="3887640" cy="485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2448720" y="440028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SDGM (1998) metadata creation to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48720" y="440028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336720" y="4400280"/>
                <a:ext cx="2195280" cy="485640"/>
                <a:chOff x="6336720" y="4400280"/>
                <a:chExt cx="2195280" cy="485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336720" y="440028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ndows 95, 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336720" y="440028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64280" y="4886280"/>
                <a:ext cx="1684440" cy="485640"/>
                <a:chOff x="764280" y="4886280"/>
                <a:chExt cx="1684440" cy="485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64280" y="488628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Tk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64280" y="488628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448720" y="4886280"/>
                <a:ext cx="3887640" cy="485640"/>
                <a:chOff x="2448720" y="4886280"/>
                <a:chExt cx="3887640" cy="485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448720" y="488628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SDGM (1998) metadata creation to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448720" y="488628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336720" y="4886280"/>
                <a:ext cx="2195280" cy="485640"/>
                <a:chOff x="6336720" y="4886280"/>
                <a:chExt cx="2195280" cy="485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36720" y="488628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cl/Tk libraries and Windows 3.1 (with Win32s) or Windows 95/98/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336720" y="488628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64280" y="5372280"/>
                <a:ext cx="1684440" cy="485640"/>
                <a:chOff x="764280" y="5372280"/>
                <a:chExt cx="1684440" cy="4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64280" y="5372280"/>
                  <a:ext cx="16844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</a:rPr>
                    <a:t>Xt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64280" y="5372280"/>
                  <a:ext cx="16844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448720" y="5372280"/>
                <a:ext cx="3887640" cy="485640"/>
                <a:chOff x="2448720" y="5372280"/>
                <a:chExt cx="3887640" cy="4856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448720" y="5372280"/>
                  <a:ext cx="388764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SDGM (1998) metadata creation to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448720" y="5372280"/>
                  <a:ext cx="388764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336720" y="5372280"/>
                <a:ext cx="2195280" cy="485640"/>
                <a:chOff x="6336720" y="5372280"/>
                <a:chExt cx="2195280" cy="4856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336720" y="5372280"/>
                  <a:ext cx="21952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NIX with XR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336720" y="5372280"/>
                  <a:ext cx="2195280" cy="48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4572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762120" y="990720"/>
              <a:ext cx="7772400" cy="4876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81080" y="15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bridged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0360" y="609480"/>
            <a:ext cx="543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Source: http://badger.state.wi.us/agencies/wlib/sco/metatool/mtool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toolbox" descr=""/>
          <p:cNvPicPr/>
          <p:nvPr/>
        </p:nvPicPr>
        <p:blipFill>
          <a:blip r:embed="rId4"/>
          <a:stretch/>
        </p:blipFill>
        <p:spPr>
          <a:xfrm>
            <a:off x="7696080" y="152280"/>
            <a:ext cx="91440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62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63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144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Maker inform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2240" y="1676520"/>
            <a:ext cx="8723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US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: Windows 3.1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in MS-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no cost through Internet at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nbii.gov/metamaker/metamaker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updated annually (current version – 2.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52578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ource: http://www.umesc.usgs.gov/metamaker/nbiimk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68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69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580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Maker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752480"/>
            <a:ext cx="8915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all FGDC elements plus NBII biological data profile elements (Taxonomy, Methodology, and Analytical To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coded (</a:t>
            </a:r>
            <a:r>
              <a:rPr b="0" lang="en-US" sz="2400" spc="-1" strike="noStrike">
                <a:solidFill>
                  <a:srgbClr val="ecbb06"/>
                </a:solidFill>
                <a:latin typeface="Arial"/>
              </a:rPr>
              <a:t>Manda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Mandatory if Applic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p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numbers displayed on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capability (Preview, Print,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/Export MetaMaker databases (.md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/MP included as part of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73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74" name="duckleft" descr=""/>
          <p:cNvPicPr/>
          <p:nvPr/>
        </p:nvPicPr>
        <p:blipFill>
          <a:blip r:embed="rId3"/>
          <a:stretch/>
        </p:blipFill>
        <p:spPr>
          <a:xfrm>
            <a:off x="68580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057400" y="30492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Maker interfac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mkrscrn" descr=""/>
          <p:cNvPicPr/>
          <p:nvPr/>
        </p:nvPicPr>
        <p:blipFill>
          <a:blip r:embed="rId4"/>
          <a:stretch/>
        </p:blipFill>
        <p:spPr>
          <a:xfrm>
            <a:off x="1752480" y="1066680"/>
            <a:ext cx="604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78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79" name="duckleft" descr=""/>
          <p:cNvPicPr/>
          <p:nvPr/>
        </p:nvPicPr>
        <p:blipFill>
          <a:blip r:embed="rId3"/>
          <a:stretch/>
        </p:blipFill>
        <p:spPr>
          <a:xfrm>
            <a:off x="457200" y="548640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81080" y="22860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Maker editing interfac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mmkredit" descr=""/>
          <p:cNvPicPr/>
          <p:nvPr/>
        </p:nvPicPr>
        <p:blipFill>
          <a:blip r:embed="rId4"/>
          <a:stretch/>
        </p:blipFill>
        <p:spPr>
          <a:xfrm>
            <a:off x="1828800" y="914400"/>
            <a:ext cx="62485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Logo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83" name="bottomline2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6115320" cy="754200"/>
          </a:xfrm>
          <a:prstGeom prst="rect">
            <a:avLst/>
          </a:prstGeom>
          <a:ln w="0">
            <a:noFill/>
          </a:ln>
        </p:spPr>
      </p:pic>
      <p:pic>
        <p:nvPicPr>
          <p:cNvPr id="184" name="duckleft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tme inform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0840" y="1676520"/>
            <a:ext cx="8723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: US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: UNIX X-window, release 11, version 5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in Standar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no cost through Internet at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eology.usgs.gov/tools/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oftware version – 2.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32760" y="5181480"/>
            <a:ext cx="69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ource: http://geology.usgs.gov/tools/metadata/tools/doc/xtm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21:30:21Z</dcterms:created>
  <dc:creator>DASC</dc:creator>
  <dc:description/>
  <dc:language>en-US</dc:language>
  <cp:lastModifiedBy>ashultz</cp:lastModifiedBy>
  <dcterms:modified xsi:type="dcterms:W3CDTF">2001-09-28T13:59:02Z</dcterms:modified>
  <cp:revision>75</cp:revision>
  <dc:subject/>
  <dc:title>No Slide Title</dc:title>
</cp:coreProperties>
</file>