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4E8-EEC7-4D02-873C-26852BD1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CB5-A56E-4E4F-BCED-1F9F8818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2C1-C357-441B-B2D1-FDFEDD41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DEA-E25E-4F68-AF08-9EFBD467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F1B-100B-488A-822F-EDFD8757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37E-5D80-4AA0-BEBC-6970F5C2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CE4-0FE1-4D52-A59D-FC90D31A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E83-48B0-4A52-8C8B-DF3A38AE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F16-377C-4801-B579-FA74AB4A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534-582B-4962-8F6B-016AF045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93F-ACE7-427D-973F-14B25F6A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B95-5652-4A23-A361-F533827C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378C-26DD-4B97-BD5A-B1A5015AC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38840" y="1981080"/>
            <a:ext cx="46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NS, MP, Maintenanc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Wrap Up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6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7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1080" y="304920"/>
            <a:ext cx="42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NS “Chew and Spit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d by Peter Schweitzer of US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3680" y="1371600"/>
            <a:ext cx="73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C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parser for formal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convert records that cannot be parsed by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8640" y="2743200"/>
            <a:ext cx="701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S takes a poorly-formatted metadata file and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- a metadata file that can be read by both mp &amp; xt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- a file listing all of the lines that it couldn’t figur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4419720"/>
            <a:ext cx="46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ed plat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(DG/UX, HP/UX, and Linu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3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12720" y="304920"/>
            <a:ext cx="43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P “Metadata Parse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d by Peter Schweitzer of US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61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M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iler to parse formal metadata, checking the syntax against the FGDC Metadata Standard and generating output suitable for viewing with a web browser or text edit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886200"/>
            <a:ext cx="677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ed plat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(DG/UX, HP/UX, IRIX, and Linu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’s running MS Windows 95, 98, or 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60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90680" y="30492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taining CNS and 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3960" y="1905120"/>
            <a:ext cx="841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S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geology.usgs.gov/tools/metadata/tools/doc/cn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geology.usgs.gov/tools/metadata/tools/doc/m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64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65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19560" y="304920"/>
            <a:ext cx="43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adata mainte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53120" y="1488960"/>
            <a:ext cx="583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with spatial data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schedule of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Standard Version updates (2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value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Contact Information, Online Linkag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70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19240" y="228600"/>
            <a:ext cx="5105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ansas – “Don’t Duck Metadata” G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52388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523880"/>
            <a:ext cx="74833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main go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a web-based metadata collection tool that is compliant with the FGDC CSDG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 workshops – 3 full-day workshops (Lawrence, Salina, Wich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partnerships – provide up to 20 grants of $500.00/each to local governments who agree to develop and maintain FGDC compliant metadata for FGDC framework t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75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76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19960" y="3049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9000" y="1488960"/>
            <a:ext cx="6244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r parts of the slides used in thi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rom the following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G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GS/Peter Schwei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80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81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18880" y="30492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GD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8680" y="1193760"/>
            <a:ext cx="380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ww.fgdc.go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7400" y="2438280"/>
            <a:ext cx="700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 to Clearingh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FGDC compliant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load metadata standard and metadata work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st developments at FG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21:30:21Z</dcterms:created>
  <dc:creator>DASC</dc:creator>
  <dc:description/>
  <dc:language>en-US</dc:language>
  <cp:lastModifiedBy>ashultz</cp:lastModifiedBy>
  <cp:lastPrinted>2000-05-08T20:41:30Z</cp:lastPrinted>
  <dcterms:modified xsi:type="dcterms:W3CDTF">2001-09-28T13:57:59Z</dcterms:modified>
  <cp:revision>13</cp:revision>
  <dc:subject/>
  <dc:title>No Slide Title</dc:title>
</cp:coreProperties>
</file>