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127-6F12-4EAE-B664-785BFBC9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3A6-5D84-405A-A488-0437D26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CBC-6189-41F6-86D5-0E25F42C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28F-9E13-4C56-BE57-3B76BE86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961-0C77-4A29-8106-B88DE00D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A24-13A3-4D16-9869-A4DB5E27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743-F4B1-4813-8E90-F1CE0E44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DD0-B79E-4727-99CC-538BD5A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18-DFAF-4609-B058-2DB5EE8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1F6-BA5F-4BC5-A53B-C361857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420-1032-4319-A10F-35981F1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4BF-AC26-4205-A64A-BAB9FA9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9FA8-B9B9-4C70-9A2C-8305E99D8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190512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Geographic Data Committee’s (FGD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ntent Standard for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eospatial Metadat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er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0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organization and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1066680"/>
            <a:ext cx="70866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ection is organized in 3 parts:  Section Definition, Production Ru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List of Component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671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Identification Information - basic information about 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Type: 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dentification_Informa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itation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escription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ime_Period_of_Content +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1.1 Citation -- information to be used to reference 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ype: 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1.2 Description -- a characterization of the data set, including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intended use and 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Type: comp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524600" y="3670560"/>
            <a:ext cx="47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&lt;--List--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&lt;Production Rules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&lt;Defini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0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2160" y="1295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the relationship between a compound element, and data elements and other (lower-level) compound ele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560" y="2666880"/>
            <a:ext cx="78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mbol Mea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replaced by, produces, consis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|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- select 1 term from the list of enclosed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{}n iteration - the term(s) enclosed is(are) repeated from “m” to “n”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       optional - the term(s) enclosed is(are)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1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160" y="1295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the relationship between a compound element, and data elements and other (lower-level) compound elem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438280"/>
            <a:ext cx="78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one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{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four to six occurrences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ptionally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65160" y="4952880"/>
            <a:ext cx="5410080" cy="398880"/>
            <a:chOff x="1865160" y="4952880"/>
            <a:chExt cx="5410080" cy="398880"/>
          </a:xfrm>
        </p:grpSpPr>
        <p:sp>
          <p:nvSpPr>
            <p:cNvPr id="119" name=""/>
            <p:cNvSpPr/>
            <p:nvPr/>
          </p:nvSpPr>
          <p:spPr>
            <a:xfrm>
              <a:off x="2234160" y="4952880"/>
              <a:ext cx="47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ms bounded by parentheses are optional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5160" y="5037120"/>
              <a:ext cx="380880" cy="228600"/>
            </a:xfrm>
            <a:prstGeom prst="star5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94360" y="5037120"/>
              <a:ext cx="380880" cy="228600"/>
            </a:xfrm>
            <a:prstGeom prst="star5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2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2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4480" y="1676520"/>
            <a:ext cx="747468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Example from Section 1: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Status =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Progres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Maintenance_and_Update_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and List from Secti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  Status -- the state of and maintenance information for the data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ess -- the state of the data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:  “Complete” “In work” “Plann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4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enance and Update Frequency -- the frequency with which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dditions are made to the data set after the initial set is comple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:  “Continually” “Daily” “Weekly” “Monthly” “Annually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known” “As needed” “Irregular” “None planned” free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0480" y="1143000"/>
            <a:ext cx="705564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RU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3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rules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120" y="1676520"/>
            <a:ext cx="837540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Example from Section 6: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Computer Contact Informa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[Network Address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Dialup Instru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and List from Section 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 Contact Information -- instructions for establishing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distribution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dress -- the electronic address from which the data se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from the distribution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4.2.2.1.1.2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lup Instructions -- information required to access the distribution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ely through telephone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280" y="1143000"/>
            <a:ext cx="761004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RU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ists of one of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66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3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3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55640" y="457200"/>
            <a:ext cx="58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ogether now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43000"/>
            <a:ext cx="840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_Information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atio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_Period_of_Conten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_Domai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_Constraint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_Constraint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int_of_Contac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{Browse_Graphic}n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_Set_Credi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curity_Information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tive_Data_Set_Environment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{Cross_Reference}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4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544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specif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21932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mage Map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 Standard for Digital Geospatial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Susan Stitt of the National Biological Division of the U.S. Geological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etamo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… 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a common set of terminology an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documentation”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lp organize &amp; maintain an organization’s internal investment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information about an organization’s data holdings to data catalogs, clearinghouses, &amp; brok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vide information to process and interpret data received through a transfer from an extern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5880" y="457200"/>
            <a:ext cx="64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Standard’s Objectives/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457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goes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GD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a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10168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ed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butes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ubject, processing, projection of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 (what is the purpose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the data collected?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it b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 does it co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62600" y="5562720"/>
            <a:ext cx="353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NOAA “Metadata for Managers”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of Metadata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82310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Data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2800" spc="-1" strike="noStrike" u="sng">
                <a:solidFill>
                  <a:srgbClr val="993366"/>
                </a:solidFill>
                <a:uFillTx/>
                <a:latin typeface="Times New Roman"/>
              </a:rPr>
              <a:t>Coverage/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f relate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such as spatial reference, entity and attribute, etc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66"/>
                </a:solidFill>
                <a:uFillTx/>
                <a:latin typeface="Times New Roman"/>
              </a:rPr>
              <a:t>Coverage/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data requiring separat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element of the data is not common with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89320" y="2286000"/>
            <a:ext cx="4870080" cy="459720"/>
          </a:xfrm>
          <a:prstGeom prst="rect">
            <a:avLst/>
          </a:prstGeom>
          <a:solidFill>
            <a:srgbClr val="ccffcc"/>
          </a:solidFill>
          <a:ln cap="rnd" w="381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C metadata is at the data se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251424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6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46400" y="4572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ections (chap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7086600" cy="33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Main S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de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, description,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,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ata Organ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,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,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&amp;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,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ing point,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etadata 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written,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35320" y="4267080"/>
            <a:ext cx="30276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 Support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 (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4419720"/>
            <a:ext cx="19400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Required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257800"/>
            <a:ext cx="36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NOAA “Metadata for Managers”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89200" y="4572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tandar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ction of the Standard is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pound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data elements and other compound ele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utline “header”, setting up storage or organiz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ta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ly primitive item of d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 where information is actually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 text, numeric, da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7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78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4572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GDC Standard sect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3716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pound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-- a characterization of the data set, including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nded use and limi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e: 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ta Element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 -- a brief narrative summary of the data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ype: 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:  free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45720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of FGDC Standard sect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1 - Identifica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27080" y="2819520"/>
            <a:ext cx="7086600" cy="2514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3204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4136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8720" y="2895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pound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276720"/>
            <a:ext cx="20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pound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320" y="3657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ata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8880" y="2895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Infor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is data set was created to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14316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457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ity of Metadata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040" y="1447920"/>
            <a:ext cx="792468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GDC Metadata Standard specifies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cond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are applied to each section, compound element, and data el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nform to the Standard, this information must be provid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ndatory if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data being document contains the characteristic described by th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, compound element, or data element, then the information must b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d to conform to the Standar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formation is optional and the user decides if it will be included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etadata 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cp:lastPrinted>2000-04-19T21:26:24Z</cp:lastPrinted>
  <dcterms:modified xsi:type="dcterms:W3CDTF">2001-09-28T13:58:41Z</dcterms:modified>
  <cp:revision>33</cp:revision>
  <dc:subject/>
  <dc:title>No Slide Title</dc:title>
</cp:coreProperties>
</file>