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36B1-D432-4D58-BA72-7D52B99F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425A-E29D-415A-9AFE-3F1EE41A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D085-E9BC-440F-A0A3-80857BE3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D419-F9A2-4BA2-B5AF-44E6E09C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CA68-F435-4DD5-9E43-149A3CF6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C7B2-4096-4A5D-99F1-67B0D319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832B-9B8D-4534-B680-AAA37885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E87F-25E7-4708-8E55-F0EC84B9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29A0-AD76-4CBA-9A35-367106FB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1212-1248-4FC6-B692-6248777D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AD8A-67B8-4F15-80A6-7F7636AA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F5A3-76AD-4DDA-9F82-F8939A73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E0C2-E7D3-48E2-A16D-6606C3FDF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42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43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67720" y="2573280"/>
            <a:ext cx="62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SC Metadata Collection To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46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47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8680" y="1508040"/>
            <a:ext cx="8305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/Win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z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, Web based Kansas and FGDC Metadata collection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 searchable via DASC Isite Search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product - error free downloadable text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S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 + DASC metadata searchable via Isite Search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DASC’s home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C converting static metadata files into Oracl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17560" y="254160"/>
            <a:ext cx="667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perative Agreements between state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Kansas GIS Policy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51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52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14680" y="1419120"/>
            <a:ext cx="571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 Fusion Application Server 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erves Cold Fusion forms and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 Fusion 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FML &amp; HTML 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cle 8i - data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Plus - table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26440" y="37800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the forms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56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57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408840" y="228600"/>
            <a:ext cx="1715400" cy="398880"/>
          </a:xfrm>
          <a:prstGeom prst="rect">
            <a:avLst/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come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58080" y="1836720"/>
            <a:ext cx="2015640" cy="703800"/>
          </a:xfrm>
          <a:prstGeom prst="rect">
            <a:avLst/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it FGDC or 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2880" y="1951200"/>
            <a:ext cx="2255040" cy="703800"/>
          </a:xfrm>
          <a:prstGeom prst="rect">
            <a:avLst/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FGDC or 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44760" y="1028880"/>
            <a:ext cx="1575360" cy="398880"/>
          </a:xfrm>
          <a:prstGeom prst="rect">
            <a:avLst/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ing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74680" y="1028880"/>
            <a:ext cx="1207800" cy="398880"/>
          </a:xfrm>
          <a:prstGeom prst="rect">
            <a:avLst/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70320" y="695160"/>
            <a:ext cx="0" cy="1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5720" y="8002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5720" y="800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61240" y="800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18320" y="148284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5720" y="1647720"/>
            <a:ext cx="49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6440" y="165888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48440" y="1492200"/>
            <a:ext cx="0" cy="3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24360" y="3122640"/>
            <a:ext cx="1515600" cy="703800"/>
          </a:xfrm>
          <a:prstGeom prst="rect">
            <a:avLst/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S 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90840" y="3122640"/>
            <a:ext cx="1869480" cy="703800"/>
          </a:xfrm>
          <a:prstGeom prst="rect">
            <a:avLst/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GDC 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77760" y="2806560"/>
            <a:ext cx="1360440" cy="398880"/>
          </a:xfrm>
          <a:prstGeom prst="rect">
            <a:avLst/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 Li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68520" y="2708280"/>
            <a:ext cx="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45200" y="26002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83480" y="3524400"/>
            <a:ext cx="1869480" cy="703800"/>
          </a:xfrm>
          <a:prstGeom prst="rect">
            <a:avLst/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GDC 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55000" y="3517920"/>
            <a:ext cx="1515600" cy="703800"/>
          </a:xfrm>
          <a:prstGeom prst="rect">
            <a:avLst/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S 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8188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93040" y="3267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7600" y="4243320"/>
            <a:ext cx="2358360" cy="1252440"/>
          </a:xfrm>
          <a:prstGeom prst="rect">
            <a:avLst/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ve/Update/Submi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wnload 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tores values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acle tab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91640" y="429588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146988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17800" y="4230720"/>
            <a:ext cx="1707840" cy="1252440"/>
          </a:xfrm>
          <a:prstGeom prst="rect">
            <a:avLst/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tores values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acle tab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37360" y="4635360"/>
            <a:ext cx="1765440" cy="1252440"/>
          </a:xfrm>
          <a:prstGeom prst="rect">
            <a:avLst/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tores values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acle tab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07000" y="4635360"/>
            <a:ext cx="2358360" cy="1252440"/>
          </a:xfrm>
          <a:prstGeom prst="rect">
            <a:avLst/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ve/Update/Submi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wnload 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tores values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acle tab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98800" y="2711520"/>
            <a:ext cx="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72080" y="3894120"/>
            <a:ext cx="0" cy="3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25760" y="3898800"/>
            <a:ext cx="0" cy="3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34240" y="429588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91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92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14680" y="1940040"/>
            <a:ext cx="571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 files and 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ed integration with server and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tem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69240" y="378000"/>
            <a:ext cx="42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C Metadata Collection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ad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1T21:30:21Z</dcterms:created>
  <dc:creator>DASC</dc:creator>
  <dc:description/>
  <dc:language>en-US</dc:language>
  <cp:lastModifiedBy>ashultz</cp:lastModifiedBy>
  <cp:lastPrinted>2000-05-07T19:16:26Z</cp:lastPrinted>
  <dcterms:modified xsi:type="dcterms:W3CDTF">2001-09-28T13:57:39Z</dcterms:modified>
  <cp:revision>15</cp:revision>
  <dc:subject/>
  <dc:title>No Slide Title</dc:title>
</cp:coreProperties>
</file>