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332-B4C3-4031-BEEA-D5F17945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re is an overlay of earthquake epicenters. GIS overlay analysis can help us see such relationships eas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fic Citation Density analysis to identify repeat call areas.  Areas identified to increase police patr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nsas and Illinois are great places to own a nice car, but DRIVE FAST through some sta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ere working for the KBI Stolen Vehicle Unit, this would tell you where to send your offi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ccess analysis.  All Green points indicate a cardiologist within five miles of a patient.  All red points indicate that there is not a cardiologist within 5 miles of the pati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Locator Interne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land use planning map of St. John’s County,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yer of a utility network GIS done for a small community in Kansas by Fort Hays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reenshot of an integrated GIS/CAMA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911 map for Gwinnitt County, Georg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ells located in the floodplain of a small Kansas town created by FHS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ing Districts in a small Kansas town. Posting such information can boost voter turn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we been able to integrate all the information we had, the 911 atrocity might have been stop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major tectonic plate boundari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1F1-27B4-4647-BDC9-D145B4D3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640-9ED1-4C8A-A8DD-9D93E0B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D00-73FF-4189-90C1-0CC188AC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F97-DA0A-48F2-86EA-5BB2AD3A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CD10-7187-49BF-9CFC-B9897196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D102-1899-4C8B-BB98-18A9D558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6D52-F7FD-44A6-B39C-1D8BAB6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AAC2-7060-42E9-BB48-CD46F242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F110-2C67-4990-AAD7-72DB7725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E82-44CD-4C33-84D9-46CCA33B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9D82-6C4E-49EE-B67C-C2B618B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E07-7BBC-422D-B394-450EA2F9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E67D-1FDF-4A7B-B2DE-2D560A6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734-FD26-43D1-B8E7-A5187474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0230-F727-419A-8B18-78D504BC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B1F3-3978-41B2-99C9-7D0CA323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8C0C-8112-46A0-A485-A66B5BEC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AF8-F90D-44F9-9833-0DEBEA3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453-8BE3-4A05-9DF3-AE795EB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1C6-0341-4D74-A275-537F2A96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CD2-3043-440A-8963-06EDDB6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0C7-3BAD-4F21-8018-AD2279E2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A45-18AC-4E72-A641-4E889D31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507-4BDA-4B02-BAD9-97FEE5B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E67-4292-47AD-9148-5657985FD1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5D50-2995-40ED-BA67-6CDAF755F3A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e live in a world of increasing complexity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879800" y="1676520"/>
            <a:ext cx="4264200" cy="238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3314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3733920" cy="19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C40-99FE-4D23-A8A3-D2F28600C4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05920" cy="4137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Earthquak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D21-F705-4CB1-95E4-99063F5F9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is also an increasingly important part of the fight against crim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echnology seen on the TV show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 “24”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ctually exists – and it helped lower New York City’s murder rate by half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B03E-B889-4343-BCA4-2D5B6E0672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14C-A3F2-4EF4-BDCC-BBE784E68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US Car Theft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3B7-675A-4F5A-90D7-A0700487A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US Car Thefts (detail)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6C7-DFE4-4657-B5A9-EC156C1CB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Proximity Analysis is another important part of  GI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y using proximity analysis, we can determine the spatial relationship between two sets of object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BDD-4328-4936-9B3E-8B017F809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034-A7E8-4645-BA46-EB51370811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Linked attribute data make searches easy and efficien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formation at your fingertips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4DDE-5238-4CC8-97BA-A08628AA3A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ED9-5A17-4699-B5D7-6EDDCFF4A9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can help Local Government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provide greater efficiency, faster response times, better community relations, and cost saving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allow “automation” of functions currently performed by h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help local governments meet state and Federal mandates, without straining personnel or raising tax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FE0-16B3-4B86-B191-250480D056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ere obtaining timely information can be a matter of life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7631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5FA-641A-4F36-BB7E-09495B899B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can help Planning create Better Communitie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spatial analysis can be used to estimate resources needed, model development, and monitor progres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overlay analysis can be used to gauge the suitability of land for future developm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help streamline the permit proces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800600" y="18288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3EF-7AFC-4FEF-8EBA-344E4426F1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– an Important Tool for Engineering and Public Work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be used to integrate CAD work and GPS points into fully functional GIS systems, to provide spatial analysis capabilit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allow creation of geographically referenced databases of pavement conditions, street signs, hydrants, manholes, and utility line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3886200" cy="37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6EC-62B1-479F-B74D-BF4060BF26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Can Create Safer Communiti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Police and Sheriff’s Departments can use GIS spatial analysis to find dangerous intersections, identify high-crime areas, and assign officers and deputies in a more efficient mann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re departments can use network analysis to route units to emergencies most rapidly, and to identify hazards such as tanks and explosiv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S personnel can use GIS to track units, route resources, and identify potential hazard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85800" y="2579760"/>
            <a:ext cx="3809880" cy="29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ED9-6CB7-434A-8B8B-8DFD318B13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and Appraisers – Natural Partner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GIS can be integrated with CAMA to make appraisal faster and more accurat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oth GIS and CAMA operate using relational databases – a relate can be establishe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ystem can be tailored to meet local nee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514600"/>
            <a:ext cx="42670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FBF-6ACC-4890-95D8-F175E4927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is Necessary for Efficient E911 Operation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be used to create a street centerline file, with street, address, and location information needed for E911 dispatch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utilize scanned images of plats, records of real property from the tax assessor, aerial photography, and rights-of-way in the cadastral layer 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5800" y="1987560"/>
            <a:ext cx="3809880" cy="410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04A-8EF2-44EB-8A59-653220CC38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– An Important Weapon in The Emergency Manager’s Arsenal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allows and facilitates the integration of many types of information concerning threat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llows cataloging of critical infrastructure, evacuation routes, supplies, rescue assets, and backup power supplie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“star” in your own “Katrina”!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2C3-BF81-4327-9898-BD932CAD20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Internet Map Servers (IMS)– Sell your Area, Serve Your Citizen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MS can be used to “market” a community or area to potential businesses or enterpris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itizens can obtain information via IMS that would otherwise take up employees tim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0BE-83DD-485C-9CA7-F0D7D057A6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The Future of GI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ore powerful software – faster analysi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sts are coming down - GIS systems are now available to the smaller use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formation sharing is becoming easier than ever before – and about time, too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field is getting bigger very rapidly – opportunities are increasing almost exponentiall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A31-4666-4D71-9A3E-C5ABE15C6F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or death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C54-009D-4BFF-8491-DD6C1FA157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eographic Information Systems (GIS) are a tool for complex times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make information available to decision-makers faster than ever befor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explore spatial relationships, and find connections unsuspected befor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rough 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spatial analysis,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produce new informatio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save 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time, money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, and 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liv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900-82ED-4893-BB45-B966830BAF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is GIS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 Geographic Information System is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ny manual or computer-based set of procedures used to store and manipulate geographically referenced data.”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GIS is a series of computerized maps with information linked to the map electronically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tores information, plus creates new informa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model various components of the world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537-55A4-4BB5-BD92-31CD3D5BF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GIS is NOT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is not CAD – CAD (Computer Aided Design) are primarily graphic display systems, for use in the design process – they do not have spatial analysis capabilit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is not automated cartography – automated cartography replicates traditional cartographic techniques using computers – does not have true GIS capabilit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is not GPS – GPS (Global Positioning Systems) use satellite timing signals to determine accurate positions on the Earth’s surface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works well with, and can enhance, all of these thing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93D-B22B-4073-9A3B-82AF2658A0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How does GIS work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key is data arranged in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 layers –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ach different type of data has its own lay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ayers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interact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e computer environment – can be combined, clipped, overlain, or otherwise manipulate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manipulation can produce new information – this is called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spatial analysi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patial Analysis is what makes true GIS different from simple electronic map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inked attribute data puts information at your fingertips, leading to faster response times, and better decisions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A02-EBDB-4AEC-9BB0-CE9498A0B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Overlay Analysis is an important part of GIS Operation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One data layer can be superimposed on another data laye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way, unsuspected interactions can be found and studie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ew information can be generated in this manne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8AA-8DE7-4A21-85FF-C3AA61A0F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Tectonic Plat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05920" cy="41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287-ABB2-4EE6-900C-4DEEC096E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8:35:25Z</dcterms:created>
  <dc:creator>FHSU</dc:creator>
  <dc:description/>
  <dc:language>en-US</dc:language>
  <cp:lastModifiedBy>imlandgraf</cp:lastModifiedBy>
  <dcterms:modified xsi:type="dcterms:W3CDTF">2006-06-05T15:08:09Z</dcterms:modified>
  <cp:revision>23</cp:revision>
  <dc:subject/>
  <dc:title>What is GIS?</dc:title>
</cp:coreProperties>
</file>