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0E1-B2FC-48EB-85BC-DFF97474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E92-F1EB-4BB6-A396-8F3EF67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BF2-6CDF-4BDB-8841-F59E939F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2BF-63EB-4956-A8C2-BA2282B5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FA-869A-474D-9216-624DBB0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752-05C5-4B15-93B1-DFD0C3F4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4BA-163C-495E-8C1F-2C3ED472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B96-9F4D-49A7-B951-6C1A723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BF6-7DA0-47AB-9873-40E79A6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E25-BA08-4B37-A524-75FCA59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5A5-6898-4437-B314-821596A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9D8-DB1A-4697-9C8F-3F5118D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DDB-984C-426B-B4F6-E28E87A1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38840" y="1981080"/>
            <a:ext cx="46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NS, MP, Maintenanc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Wrap U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1080" y="304920"/>
            <a:ext cx="42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NS “Chew and Spi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Peter Schweitzer of US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3680" y="1371600"/>
            <a:ext cx="73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parser for formal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convert records that cannot be parsed by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8640" y="2743200"/>
            <a:ext cx="70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S takes a poorly-formatted metadata file and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- a metadata file that can be read by both mp &amp; xt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- a file listing all of the lines that it couldn’t figur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4419720"/>
            <a:ext cx="46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(DG/UX, HP/UX, and 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2720" y="304920"/>
            <a:ext cx="43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P “Metadata Pars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Peter Schweitzer of US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6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iler to parse formal metadata, checking the syntax against the FGDC Metadata Standard and generating output suitable for viewing with a web browser or text edi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886200"/>
            <a:ext cx="67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(DG/UX, HP/UX, IRIX, and 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’s running MS Windows 95, 98, or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90680" y="30492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taining CNS and 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960" y="1905120"/>
            <a:ext cx="841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eology.usgs.gov/tools/metadata/tools/doc/cn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eology.usgs.gov/tools/metadata/tools/doc/m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9560" y="304920"/>
            <a:ext cx="43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data maint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53120" y="1488960"/>
            <a:ext cx="583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ith spatial data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schedule of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Standard Version updates (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value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Contact Information, Online Linkag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nsas – “Don’t Duck Metadata” 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523880"/>
            <a:ext cx="74833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main 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web-based metadata collection tool that is compliant with the FGDC CSD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 workshops – 3 full-day workshops (Lawrence, Salina, Wich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artnerships – provide up to 20 grants of $500.00/each to local governments who agree to develop and maintain FGDC compliant metadata for FGDC framework t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19960" y="3049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9000" y="1488960"/>
            <a:ext cx="6244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r parts of the slides used in thi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the following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G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GS/Peter Schwei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8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18880" y="30492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G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1193760"/>
            <a:ext cx="38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ww.fgdc.go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7400" y="2438280"/>
            <a:ext cx="700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to Clearing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GDC compliant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metadata standard and metadata work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st developments at FG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5-08T20:41:30Z</cp:lastPrinted>
  <dcterms:modified xsi:type="dcterms:W3CDTF">2001-09-28T13:57:59Z</dcterms:modified>
  <cp:revision>13</cp:revision>
  <dc:subject/>
  <dc:title>No Slide Title</dc:title>
</cp:coreProperties>
</file>