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6AC2-9C88-4EC6-AFBD-C660A6B3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DABA-5012-47CF-95BB-E25B034F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059D-832E-440F-9742-9994917B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B26F-4C11-4DDE-A32A-B225B607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DEFB-11E4-4D86-8595-2B19B829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62FF-F848-4F03-A236-57E0F875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870C-813C-4019-8994-175C7C26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7A6D-9BDB-4D88-8924-B54E704B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011F-DAE6-4852-8A9E-5121E375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18E5-36B2-415B-9D89-8CA94EC0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AE5D-CBE0-4053-BE32-FE76C0D2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57EB-DF59-43CD-8B16-B03CC5AB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6EFB-0E1C-4EBC-A6E7-2B5B80726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42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43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67720" y="2573280"/>
            <a:ext cx="620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SC Metadata Collection To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46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47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18680" y="1508040"/>
            <a:ext cx="8305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n/Win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z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, Web based Kansas and FGDC Metadata collection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data searchable via DASC Isite Search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product - error free downloadable text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S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tion + DASC metadata searchable via Isite Search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DASC’s home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C converting static metadata files into Oracl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17560" y="254160"/>
            <a:ext cx="667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perative Agreements between state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Kansas GIS Policy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51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52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14680" y="1419120"/>
            <a:ext cx="571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d Fusion Application Server 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erves Cold Fusion forms and 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d Fusion 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FML &amp; HTML 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cle 8i - data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Plus - table 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26440" y="37800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the forms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56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57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408840" y="228600"/>
            <a:ext cx="1715400" cy="398880"/>
          </a:xfrm>
          <a:prstGeom prst="rect">
            <a:avLst/>
          </a:prstGeom>
          <a:noFill/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come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58080" y="1836720"/>
            <a:ext cx="2015640" cy="703800"/>
          </a:xfrm>
          <a:prstGeom prst="rect">
            <a:avLst/>
          </a:prstGeom>
          <a:noFill/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it FGDC or 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22880" y="1951200"/>
            <a:ext cx="2255040" cy="703800"/>
          </a:xfrm>
          <a:prstGeom prst="rect">
            <a:avLst/>
          </a:prstGeom>
          <a:noFill/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FGDC or 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44760" y="1028880"/>
            <a:ext cx="1575360" cy="398880"/>
          </a:xfrm>
          <a:prstGeom prst="rect">
            <a:avLst/>
          </a:prstGeom>
          <a:noFill/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ing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74680" y="1028880"/>
            <a:ext cx="1207800" cy="398880"/>
          </a:xfrm>
          <a:prstGeom prst="rect">
            <a:avLst/>
          </a:prstGeom>
          <a:noFill/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70320" y="695160"/>
            <a:ext cx="0" cy="1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5720" y="8002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5720" y="800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61240" y="800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18320" y="148284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5720" y="1647720"/>
            <a:ext cx="49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46440" y="165888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48440" y="1492200"/>
            <a:ext cx="0" cy="32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24360" y="3122640"/>
            <a:ext cx="1515600" cy="703800"/>
          </a:xfrm>
          <a:prstGeom prst="rect">
            <a:avLst/>
          </a:prstGeom>
          <a:noFill/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S Meta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90840" y="3122640"/>
            <a:ext cx="1869480" cy="703800"/>
          </a:xfrm>
          <a:prstGeom prst="rect">
            <a:avLst/>
          </a:prstGeom>
          <a:noFill/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GDC Meta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77760" y="2806560"/>
            <a:ext cx="1360440" cy="398880"/>
          </a:xfrm>
          <a:prstGeom prst="rect">
            <a:avLst/>
          </a:prstGeom>
          <a:noFill/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 Li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68520" y="2708280"/>
            <a:ext cx="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45200" y="26002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83480" y="3524400"/>
            <a:ext cx="1869480" cy="703800"/>
          </a:xfrm>
          <a:prstGeom prst="rect">
            <a:avLst/>
          </a:prstGeom>
          <a:noFill/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GDC Meta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55000" y="3517920"/>
            <a:ext cx="1515600" cy="703800"/>
          </a:xfrm>
          <a:prstGeom prst="rect">
            <a:avLst/>
          </a:prstGeom>
          <a:noFill/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S Meta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58188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493040" y="3267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7600" y="4243320"/>
            <a:ext cx="2358360" cy="1252440"/>
          </a:xfrm>
          <a:prstGeom prst="rect">
            <a:avLst/>
          </a:prstGeom>
          <a:noFill/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ve/Update/Submi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wnload Meta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tores values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acle tab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991640" y="4295880"/>
            <a:ext cx="0" cy="3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146988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17800" y="4230720"/>
            <a:ext cx="1707840" cy="1252440"/>
          </a:xfrm>
          <a:prstGeom prst="rect">
            <a:avLst/>
          </a:prstGeom>
          <a:noFill/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tores values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acle tab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37360" y="4635360"/>
            <a:ext cx="1765440" cy="1252440"/>
          </a:xfrm>
          <a:prstGeom prst="rect">
            <a:avLst/>
          </a:prstGeom>
          <a:noFill/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tores values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acle tab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07000" y="4635360"/>
            <a:ext cx="2358360" cy="1252440"/>
          </a:xfrm>
          <a:prstGeom prst="rect">
            <a:avLst/>
          </a:prstGeom>
          <a:noFill/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ve/Update/Submi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wnload Meta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tores values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acle tab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98800" y="2711520"/>
            <a:ext cx="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72080" y="3894120"/>
            <a:ext cx="0" cy="33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25760" y="3898800"/>
            <a:ext cx="0" cy="33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34240" y="4295880"/>
            <a:ext cx="0" cy="3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91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92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14680" y="1940040"/>
            <a:ext cx="571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 files and 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ed integration with server and 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temp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69240" y="378000"/>
            <a:ext cx="42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C Metadata Collection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ad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1T21:30:21Z</dcterms:created>
  <dc:creator>DASC</dc:creator>
  <dc:description/>
  <dc:language>en-US</dc:language>
  <cp:lastModifiedBy>ashultz</cp:lastModifiedBy>
  <cp:lastPrinted>2000-05-07T19:16:26Z</cp:lastPrinted>
  <dcterms:modified xsi:type="dcterms:W3CDTF">2001-09-28T13:57:39Z</dcterms:modified>
  <cp:revision>15</cp:revision>
  <dc:subject/>
  <dc:title>No Slide Title</dc:title>
</cp:coreProperties>
</file>