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9A6-40CA-4DAF-8742-7BE07636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3D7-90BD-4801-9811-03F08400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CA2-A827-4B5C-B6C6-E1E614EA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9C3-3D97-426D-938C-C1D3BC65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D54-96FD-4BF7-B68C-696A0E47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635-CC72-4169-AA9A-93588FB8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F55-4C98-461D-8F32-C2B3BB54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84F-C220-4A82-991D-95DACE8E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776-3791-4F94-9A30-FC5A2E69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E87-4BE7-4AA2-9AAD-A3C86D5B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630-06F3-4191-989F-D7358CD0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37F-C26A-487F-ADEC-DD3E4AF4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9705-DF7F-4E7A-904F-20B5E89DC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1905120"/>
            <a:ext cx="693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deral Geographic Data Committee’s (FGD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ntent Standard for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eospatial Metadat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Vers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01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55640" y="4572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organization and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28880" y="1066680"/>
            <a:ext cx="7086600" cy="1008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Section is organized in 3 parts:  Section Definition, Production Rul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 List of Component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752480"/>
            <a:ext cx="671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Identification Information - basic information about the data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Type:  comp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Identification_Information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itation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Description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ime_Period_of_Content +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1.1 Citation -- information to be used to reference the data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Type:  comp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1.2 Description -- a characterization of the data set, including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intended use and limi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Type: comp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1524600" y="3670560"/>
            <a:ext cx="475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&lt;--List--&gt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&lt;Production Rules&gt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&lt;Defini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07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08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55640" y="4572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2160" y="12952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the relationship between a compound element, and data elements and other (lower-level) compound eleme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8560" y="2666880"/>
            <a:ext cx="788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ymbol Mea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replaced by, produces, consist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|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 - select 1 term from the list of enclosed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{}n iteration - the term(s) enclosed is(are) repeated from “m” to “n”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       optional - the term(s) enclosed is(are) 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13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14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55640" y="4572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2160" y="12952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the relationship between a compound element, and data elements and other (lower-level) compound eleme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438280"/>
            <a:ext cx="788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ist of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ist of one of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{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ist of four to six occurrences of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ist of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ptionally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865160" y="4952880"/>
            <a:ext cx="5410080" cy="398880"/>
            <a:chOff x="1865160" y="4952880"/>
            <a:chExt cx="5410080" cy="398880"/>
          </a:xfrm>
        </p:grpSpPr>
        <p:sp>
          <p:nvSpPr>
            <p:cNvPr id="119" name=""/>
            <p:cNvSpPr/>
            <p:nvPr/>
          </p:nvSpPr>
          <p:spPr>
            <a:xfrm>
              <a:off x="2234160" y="4952880"/>
              <a:ext cx="470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s bounded by parentheses are optional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65160" y="5037120"/>
              <a:ext cx="380880" cy="228600"/>
            </a:xfrm>
            <a:prstGeom prst="star5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94360" y="5037120"/>
              <a:ext cx="380880" cy="228600"/>
            </a:xfrm>
            <a:prstGeom prst="star5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23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24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55640" y="4572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rules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70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4480" y="1676520"/>
            <a:ext cx="747468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Example from Section 1: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Status =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Progress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Maintenance_and_Update_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inition and List from Secti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4  Status -- the state of and maintenance information for the data 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:  comp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4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ess -- the state of the data 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: 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ain:  “Complete” “In work” “Plann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4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tenance and Update Frequency -- the frequency with which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dditions are made to the data set after the initial set is comple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: 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ain:  “Continually” “Daily” “Weekly” “Monthly” “Annually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known” “As needed” “Irregular” “None planned” free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50480" y="1143000"/>
            <a:ext cx="7055640" cy="398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RU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ists of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30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31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55640" y="4572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rules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70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4120" y="1676520"/>
            <a:ext cx="8375400" cy="41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Example from Section 6: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Computer Contact Information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[Network Address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Dialup Instru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inition and List from Section 6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4.2.2.1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er Contact Information -- instructions for establishing 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the distribution c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:  comp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4.2.2.1.1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 Address -- the electronic address from which the data set can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ed from the distribution c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:  comp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4.2.2.1.1.2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alup Instructions -- information required to access the distribution 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tely through telephone 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:  comp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3280" y="1143000"/>
            <a:ext cx="7610040" cy="398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RU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ists of one of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37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38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55640" y="4572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ogether now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70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143000"/>
            <a:ext cx="840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tion_Information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tation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_Period_of_Content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_Domain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_Constraint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_Constraint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int_of_Contact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{Browse_Graphic}n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a_Set_Credit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ecurity_Information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ative_Data_Set_Environment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{Cross_Reference}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43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44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6544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specif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70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21932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mage Map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 Standard for Digital Geospatial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Susan Stitt of the National Biological Division of the U.S. Geological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etamo" descr=""/>
          <p:cNvPicPr/>
          <p:nvPr/>
        </p:nvPicPr>
        <p:blipFill>
          <a:blip r:embed="rId4"/>
          <a:stretch/>
        </p:blipFill>
        <p:spPr>
          <a:xfrm>
            <a:off x="4267080" y="11430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6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7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129528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… 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vide a common set of terminology and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documentation”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lp organize &amp; maintain an organization’s internal investment i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vide information about an organization’s data holdings to data catalogs, clearinghouses, &amp; broker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vide information to process and interpret data received through a transfer from an external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5880" y="457200"/>
            <a:ext cx="64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 Standard’s Objectives/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2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3880" y="457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goes in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GD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a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101680"/>
            <a:ext cx="761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ed and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tributes the 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ubject, processing, projection of the 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the data col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the data col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the data collected (what is the purpose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the data collected? 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it be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ch does it co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62600" y="5562720"/>
            <a:ext cx="353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NOAA “Metadata for Managers”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7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8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s of Metadata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371600"/>
            <a:ext cx="82310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Times New Roman"/>
              </a:rPr>
              <a:t>Data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0" lang="en-US" sz="2800" spc="-1" strike="noStrike" u="sng">
                <a:solidFill>
                  <a:srgbClr val="993366"/>
                </a:solidFill>
                <a:uFillTx/>
                <a:latin typeface="Times New Roman"/>
              </a:rPr>
              <a:t>Coverage/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f relate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such as spatial reference, entity and attribute, etc a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66"/>
                </a:solidFill>
                <a:uFillTx/>
                <a:latin typeface="Times New Roman"/>
              </a:rPr>
              <a:t>Coverage/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data requiring separate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element of the data is not common with an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89320" y="2286000"/>
            <a:ext cx="4870080" cy="459720"/>
          </a:xfrm>
          <a:prstGeom prst="rect">
            <a:avLst/>
          </a:prstGeom>
          <a:solidFill>
            <a:srgbClr val="ccffcc"/>
          </a:solidFill>
          <a:ln cap="rnd" w="381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C metadata is at the data se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251424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64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65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46400" y="4572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GDC Sections (chap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219320"/>
            <a:ext cx="7086600" cy="33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 Main S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Ident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, description,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cy,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Data Organ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,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,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&amp; 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,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point,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Metadata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written,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35320" y="4267080"/>
            <a:ext cx="302760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 Support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ation (re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8560" y="4419720"/>
            <a:ext cx="194004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Required s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257800"/>
            <a:ext cx="36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NOAA “Metadata for Managers”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7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89200" y="4572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GDC Standard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3716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ction of the Standard is made u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mpound Element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data elements and other compound elem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utline “header”, setting up storage or organization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ata Element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ly primitive item of da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 where information is actually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:  text, numeric, dat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77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78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76520" y="45720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GDC Standard section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3716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mpound Element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-- a characterization of the data set, including 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nded use and limi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ype:  com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ata Element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 -- a brief narrative summary of the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ype: 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main:  free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8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8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76520" y="45720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of FGDC Standard section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574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1 - Identification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27080" y="2819520"/>
            <a:ext cx="7086600" cy="2514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3204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14136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98720" y="28954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ompound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3276720"/>
            <a:ext cx="20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ompound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320" y="36576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ata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28880" y="28954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Inform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is data set was created to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143160" y="3505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95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96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71600" y="4572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ity of Metadata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8040" y="1447920"/>
            <a:ext cx="792468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GDC Metadata Standard specifies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imes New Roman"/>
              </a:rPr>
              <a:t>3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imes New Roman"/>
              </a:rPr>
              <a:t>condi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are applied to each section, compound element, and data el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Mand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onform to the Standard, this information must be provid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Mandatory if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data being document contains the characteristic described by th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tion, compound element, or data element, then the information must b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d to conform to the Standar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nformation is optional and the user decides if it will be included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etadata fi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21:30:21Z</dcterms:created>
  <dc:creator>DASC</dc:creator>
  <dc:description/>
  <dc:language>en-US</dc:language>
  <cp:lastModifiedBy>ashultz</cp:lastModifiedBy>
  <cp:lastPrinted>2000-04-19T21:26:24Z</cp:lastPrinted>
  <dcterms:modified xsi:type="dcterms:W3CDTF">2001-09-28T13:58:41Z</dcterms:modified>
  <cp:revision>33</cp:revision>
  <dc:subject/>
  <dc:title>No Slide Title</dc:title>
</cp:coreProperties>
</file>